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C32-66B1-4F76-A95E-C22220063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7F7C-DE1F-4938-821F-2850662F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5E9-C4BD-4707-8849-89DF7409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4190-3DF9-4982-A276-A259AF928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1141-A797-49B2-805C-CF5B4B6E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EFEC-54AC-4ABE-94FF-299E6C1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BB43-EC70-4509-AC1A-1A196512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DC3C-3B72-4C3E-9C92-84418F2E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62CD-A6F3-4913-96DD-B83C30D8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95F4-80DB-49CD-946D-3373CF21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4DF4B-E1B7-4B45-9139-1766AFBB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9AB-7F53-4CCB-B67A-037D33CEB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AEA8-3348-4E0F-83A0-C76AB7B1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21BD-A178-4D7F-BB5A-4C41749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BB07-902D-4353-BD0A-2D27309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067F1-DDF5-4D80-B271-F352C298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C9D7-6D3D-47ED-B4AE-1A8799A1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023-2B2C-480B-9046-B8AF4B2E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FF26-A43A-4B85-AE90-630AED4A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B3D-E7E4-4C4B-932C-3CF5C95C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F1AA-CA07-46D4-8B7B-EEA7BBD3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66BE-9C79-449B-9F6A-2078986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0A4-B8F8-4D36-B9B2-0B19957C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5DB-0DA4-4A93-91F1-93C2EC23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E05-C2E1-4B6D-BA67-169FBBFF2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DCE7-1A24-4ED5-B7C1-94398A94E1BA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49200"/>
            <a:ext cx="753588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is to estimate the error probability of the designed classification syst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Error Counting Techniq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data points in class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r tes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poi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robability error for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ifier is assumed to have been designed us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othe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ata s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that the feature vectors in the test data set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abi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from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ing in error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908000" y="2708280"/>
                <a:ext cx="12258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03280" y="5300640"/>
                <a:ext cx="713592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n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rongly classified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b>
                      <m:e>
                        <m:r>
                          <m:t xml:space="preserve">P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2242440" y="115920"/>
            <a:ext cx="461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YSTEM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788000" y="2276640"/>
                <a:ext cx="325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908000" y="2276640"/>
                <a:ext cx="34956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908000" y="1989000"/>
                <a:ext cx="328680" cy="2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8CC9-8186-478C-9DED-190AF877414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475920"/>
            <a:ext cx="7246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are not known, estima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maximizing the above binomial distribution.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count the errors and divide by the total number of test points in clas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probability of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564000" y="1557360"/>
                <a:ext cx="1150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166920" y="4581360"/>
                <a:ext cx="194652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A33-0905-4BB7-94B4-821D92A05595}" type="slidenum">
              <a:t>2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440" y="-387720"/>
            <a:ext cx="80629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 Proper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 the estimator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bias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ut only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symptotically consistent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Hence for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 </a:t>
            </a:r>
            <a:r>
              <a:rPr b="1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, may not be rel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theoretically derived estimate of a sufficient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est data se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5800" y="681120"/>
                <a:ext cx="15062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050920" y="1311120"/>
                <a:ext cx="3384720" cy="82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</m:t>
                    </m:r>
                    <m:r>
                      <m:t xml:space="preserve">E</m:t>
                    </m:r>
                    <m:r>
                      <m:t xml:space="preserve">[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]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050920" y="2212920"/>
                <a:ext cx="20876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050920" y="2781360"/>
                <a:ext cx="302436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780000" y="5445000"/>
                <a:ext cx="11523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≈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523880" y="6308640"/>
                <a:ext cx="60962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hus,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1000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For </m:t>
                    </m:r>
                    <m:r>
                      <m:t xml:space="preserve">P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≈</m:t>
                    </m:r>
                    <m:r>
                      <m:rPr>
                        <m:lit/>
                        <m:nor/>
                      </m:rPr>
                      <m:t xml:space="preserve">30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13FA-95CF-4186-8A99-5389EFBD3118}" type="slidenum">
              <a:t>3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31880" y="333000"/>
            <a:ext cx="7439040" cy="61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oiting the finite size of the data se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substitution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the same data for training and testing.  I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derestimates the error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estimate improves for 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large       rati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oldout Meth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vide it into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est po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lem:  Less data both for training and tes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284720" y="2205000"/>
                <a:ext cx="333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F7FB1-A7D4-4598-89C5-ED89E75A2AC6}" type="slidenum">
              <a:t>4</a:t>
            </a:fld>
          </a:p>
        </p:txBody>
      </p:sp>
    </p:spTree>
  </p:cSld>
  <p:transition>
    <p:random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31880" y="64152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-one-out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one sample out of the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ifier using the remaining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s.  Test the classifier using the selected sample.  Count an error if it is misclassifi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e above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cluding a differ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mple each tim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error probability by averaging the counted erro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78BF-8788-4226-BC36-0E916B8C4D30}" type="slidenum">
              <a:t>5</a:t>
            </a:fld>
          </a:p>
        </p:txBody>
      </p:sp>
    </p:spTree>
  </p:cSld>
  <p:transition>
    <p:random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31880" y="568440"/>
            <a:ext cx="7439040" cy="61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all data for testing and 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res independence between test and training samp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advantag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in computations hig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riants of it exclu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k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each time, to reduce complex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9041-50A0-4B15-AC3D-2B75DE84105F}" type="slidenum">
              <a:t>6</a:t>
            </a:fld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9:08:49Z</dcterms:created>
  <dc:creator>tyiannak</dc:creator>
  <dc:description/>
  <dc:language>en-US</dc:language>
  <cp:lastModifiedBy>ST</cp:lastModifiedBy>
  <dcterms:modified xsi:type="dcterms:W3CDTF">2006-08-31T12:45:48Z</dcterms:modified>
  <cp:revision>13</cp:revision>
  <dc:subject/>
  <dc:title>Slide 1</dc:title>
</cp:coreProperties>
</file>